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C70-373E-4398-B934-5BD0829F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9E6-9EE3-4EB3-9429-FE1914C7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45589-C6D8-42FD-8691-2392065B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73E01-8B2C-4D46-8C67-E8F6915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83B29-899A-41AD-B866-80A9F64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F71D9-4A70-4154-A6B5-7610BC2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4A042-BD3C-4C27-9C22-2B66B576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F3FBC-71D5-4A57-BA0F-B7B20E9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C656A-903B-4D40-AF5C-1201E7D3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AA2DD-88C5-48D5-8560-17632BC0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591FA-43B5-4905-80DB-60B1AA71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FCE-12B5-4DBF-9138-827099E8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52A-51B4-473A-BC52-9B56B1F7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4FDB-3B2E-41D2-8072-47B73F4E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1CB3-1822-4572-ADF5-BA4D11AB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12FA-81E7-457D-A1A0-1D204F82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EA7-A9B6-4390-B084-F1AEEB68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24C-28F1-487C-934A-27F378C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7E8D-7882-479B-837C-42F82C9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948A-07AE-43E8-9132-5845334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865-9D1E-4B95-84E7-BAE96A84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776-6E64-4FB0-93B9-089E5A7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B1EC-0649-4965-BA07-DBAFCC5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8378-1314-436B-B437-04CBAEE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0050-20F1-444A-A2F3-9B93B128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F3F0-1BE8-49DC-AD2F-E46D72C3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B699-1C31-4D8C-B40A-CD69F9E2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DF7B-2C7A-4DCB-A319-233AD9D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C24D-6D79-4C94-A96A-6D86C595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A25B-350E-4CED-BDCC-A3E78C6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850A-9C6B-439D-9777-A6CD9ACE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442-0B62-49D9-BEB4-29C6F9C0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8E6F-6F04-4EC8-A1FD-DFB7B61F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124F-CB08-46EE-9F41-B60AA0D8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0BCF-6EFC-4426-85B5-5C92DEE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2A45-B435-4E34-8007-FD60506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D947-F347-4380-A5F6-FE2CF13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F9C3-1A68-4B22-8176-F38AD752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E49D-EDE3-4342-BC33-A4F13DAA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0D60-9340-44CC-9AA9-5DFB4CCA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81E5-30F6-4D6E-8F02-BCE33AD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B3B6-0DDB-400F-8A30-EC837C2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AE6-CEA9-4486-8268-63B3639D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97C94-5E2E-45DF-82E4-F27051DD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1A17-397F-41ED-99A4-FDAC80AE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A7CA-2FA1-4472-B775-4D0EFEFC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002B-13F8-45AA-A3A3-111EB15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18C7-A99F-418A-99BC-BE07FE7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AC9E-518E-44F2-B245-6B48677D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0D5B-7C21-4CBF-9FE3-1C1B786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B3D9-F504-4B4B-A49C-E292470F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E5BC-899E-489E-B63C-5ADA786A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C5CB-800E-4ACF-8CA2-31561223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B96-7022-4428-AFE4-98B38A7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A76C-2D2B-4F9D-808E-9F11208E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5E48-515A-45E4-9692-B8D6974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89AF2-6A25-428E-840B-29738D5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3A5F-EB0A-4E31-A8C9-2E1E97F2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E327-6E39-4C05-AEAA-CB12E03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84BF-1E1E-4B60-8D12-089A0AF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16AC-63E4-4FBE-A4E9-22C5AD8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03B8-01A6-4426-B5E0-E935A0B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AABA-2F31-43F0-BC2E-ADB0209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9DB47-97D1-4EC5-94AA-CF8AFD12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177-E29A-47EC-9E3B-A983BE93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3D28-7030-4D3F-8726-CFF22FA5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9064-2AA5-492C-AC2E-756AEE12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F780-3C83-4640-A783-0828903D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168C-6A79-4992-A21B-FBFA61AE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7EA1-35BF-4BB4-B18F-78F5A723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CE1B-7105-4C28-8FDA-568196D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A124-A2C2-49DD-A440-0D34F77E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9531-01AF-4667-B3F7-28D8720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0E6C-466C-454F-B868-94F5809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C663-4E81-4315-9CF2-52275C5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317-9667-4CB9-B918-B70CE7C0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F486-95B1-4776-AF7B-F8806D30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069F-8B0B-45A3-A2F4-0AE32CC9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9048-F144-42D6-A513-0E85DD58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21F9E-4F65-49B8-AB3C-51F5C11E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3BB86-FBF4-46F0-9A83-3D918ECC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A00A-B975-42BE-9DD0-85C4873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8EA5C-38A7-43FD-AB34-50803D9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C6CD6-9DC2-463C-A12A-550A4EC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A968-124F-41DA-82FD-E50EBA35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E813-B56E-4988-8E9B-C4AF7547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DE9-D051-443B-A08B-C76BE2E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35AD-E64A-4F58-BEDD-94A005D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231D-76F5-47DE-863C-6DF57F0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4039-B30E-4CEC-9C31-1C580C31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2B7FC-C12C-4791-9A3B-79E1935B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3BD49-85B3-4EC4-8262-50E7976E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36D9E-0D07-4638-80AE-C3A560BC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1058-5AF2-40F7-A739-D711206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E1AD6-D625-4650-8A5F-54634725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EDE7A-48C4-44F8-8EF1-C2AC5A45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B1DEC-C2AF-47F2-8264-C904AB2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E8E-922B-4E28-95F4-847CF81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A22F-526C-4C1A-8847-B9D3532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78DCB-CDA3-4B00-9D49-026DA9F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1E18-4795-4FB8-87A7-0653F95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09EB-5197-4EFA-92C2-855E1F8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1507-70C6-4C1C-A7CD-57DADDE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C61F-8F26-4222-B458-668AA65C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EC804-513C-426B-8E15-258CC8A7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7968F-D093-45DB-A02A-9345E89C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9EB9-A340-4B44-8496-9BA5211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6DB3B-227A-49A8-B960-3C8C231B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B22F-F9C3-45BA-A9F6-6AE139CC9E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394A-E8DA-4C9C-BB40-A45E51B6E5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7CC-C123-4D05-9884-F382CF6C86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58C3-5903-497C-A8EA-0F60669FCC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370-E7D7-4CE3-995F-D0F299DFE3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E8F-EEFD-4892-8442-F13A1E82C9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EF2-1B5E-404C-AA32-D82845A464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7E37-D5B6-414B-AD8E-65919D0768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91F6-5EBA-4CDF-9498-1A14B10F17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ics.livejournal.com/zoyae/pic/000bxpa0/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tolkovatelsnov.ru/netcat_files/Image/tu1(1)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hotos.lifeisphoto.ru/5/2/51032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Русским женщинам-участницам Отечественной  войны 1812г  посвящает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4" descr=""/>
          <p:cNvPicPr/>
          <p:nvPr/>
        </p:nvPicPr>
        <p:blipFill>
          <a:blip r:embed="rId2"/>
          <a:srcRect l="3720" t="0" r="0" b="0"/>
          <a:stretch/>
        </p:blipFill>
        <p:spPr>
          <a:xfrm>
            <a:off x="611280" y="333360"/>
            <a:ext cx="55450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17" descr="http://yro.narod.ru/bibliotheca/gen/DUROVA/durova10.jpg"/>
          <p:cNvPicPr/>
          <p:nvPr/>
        </p:nvPicPr>
        <p:blipFill>
          <a:blip r:embed="rId1"/>
          <a:stretch/>
        </p:blipFill>
        <p:spPr>
          <a:xfrm>
            <a:off x="4284720" y="765000"/>
            <a:ext cx="4429080" cy="52149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3"/>
          <p:cNvSpPr/>
          <p:nvPr/>
        </p:nvSpPr>
        <p:spPr>
          <a:xfrm>
            <a:off x="3857760" y="542916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08000" y="860040"/>
            <a:ext cx="388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Памятник Н.Дуровой поставили на родине в г.Елабуге: </a:t>
            </a:r>
            <a:br>
              <a:rPr sz="4000"/>
            </a:b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«Кавалерист-девица на боевом коне».</a:t>
            </a:r>
            <a:r>
              <a:rPr b="0" lang="ru-RU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Documents and Settings\Admin\Рабочий стол\59999.jpg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248000" cy="309744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 flipH="1">
            <a:off x="395280" y="429264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ы из фильма Э.Рязанова «Гусарская    балла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ую роль Шурочки играла актриса Лариса Голуб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 flipH="1">
            <a:off x="4500720" y="189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ьба Надежды Дуровой стала прототипом Шурочки Азаровой – первой русской женщины-гусара, офицера Русской Императорской армии и участницей Отечественной войны 1812 года в художественном фил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-main-pic" descr="Картинка 3 из 19"/>
          <p:cNvPicPr/>
          <p:nvPr/>
        </p:nvPicPr>
        <p:blipFill>
          <a:blip r:embed="rId1"/>
          <a:stretch/>
        </p:blipFill>
        <p:spPr>
          <a:xfrm>
            <a:off x="108000" y="115920"/>
            <a:ext cx="3959280" cy="576108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2"/>
          <p:cNvSpPr/>
          <p:nvPr/>
        </p:nvSpPr>
        <p:spPr>
          <a:xfrm>
            <a:off x="4427640" y="-15840"/>
            <a:ext cx="471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ха хутора Горшкова Сычевского уезда Смоленской губернии партизанк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силиса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на организовала из женщин и подростков партизанский отряд, вооруженный косами, вилами и топорами. Биография Василисы Кожиной была впервые публично упомянута в небольшой заметке журнала «Сын Отечества» в том же 1812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14" descr="http://uploads.ru/t/1/X/V/1XV7k.jpg"/>
          <p:cNvPicPr/>
          <p:nvPr/>
        </p:nvPicPr>
        <p:blipFill>
          <a:blip r:embed="rId1"/>
          <a:stretch/>
        </p:blipFill>
        <p:spPr>
          <a:xfrm>
            <a:off x="230040" y="357120"/>
            <a:ext cx="3984840" cy="62150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3"/>
          <p:cNvSpPr/>
          <p:nvPr/>
        </p:nvSpPr>
        <p:spPr>
          <a:xfrm>
            <a:off x="4788000" y="1844640"/>
            <a:ext cx="414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ргарита Михайловна Тучкова родилась 2 января 178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21" descr="http://forumimage.ru/uploads/20110124/129587276021005564.jpg"/>
          <p:cNvPicPr/>
          <p:nvPr/>
        </p:nvPicPr>
        <p:blipFill>
          <a:blip r:embed="rId1"/>
          <a:stretch/>
        </p:blipFill>
        <p:spPr>
          <a:xfrm>
            <a:off x="108000" y="333360"/>
            <a:ext cx="3816360" cy="561672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2"/>
          <p:cNvSpPr/>
          <p:nvPr/>
        </p:nvSpPr>
        <p:spPr>
          <a:xfrm>
            <a:off x="4211640" y="476280"/>
            <a:ext cx="475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А.А.Тучкова-мужа Тучковой М.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у изображения удалось передать романтический облик героя. Живописец изобразил на его мундире медаль за участие в войне 1812 год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Рисунок 1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52866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"/>
          <p:cNvSpPr/>
          <p:nvPr/>
        </p:nvSpPr>
        <p:spPr>
          <a:xfrm>
            <a:off x="1000080" y="5715000"/>
            <a:ext cx="72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родинская битва 1812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7786800" cy="45118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"/>
          <p:cNvSpPr/>
          <p:nvPr/>
        </p:nvSpPr>
        <p:spPr>
          <a:xfrm>
            <a:off x="108000" y="480636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л Н. А. Тучков, при появлении неприятельских войск на Старой Смоленской дороге, решил занять более выгодную позицию и отвел войска из лощины, находившейся возле деревни Утица, к кург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http://pics.livejournal.com/zoyae/pic/000bxpa0/s640x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60280"/>
            <a:ext cx="4862520" cy="60008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>
            <a:off x="5076720" y="357120"/>
            <a:ext cx="392436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А.Тучк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чи уже раненным, взял знамя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,трусите, ребята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я один пой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шёл. 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я могу тебя ждать.mp3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001000" cy="48578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468360" y="5084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а Тучкова в месиве непогребённых тел, искала  останки мужа. Днём и ночью.  И так- почти неде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Картинка 20 из 4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646520" cy="57866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3"/>
          <p:cNvSpPr/>
          <p:nvPr/>
        </p:nvSpPr>
        <p:spPr>
          <a:xfrm>
            <a:off x="5076720" y="549360"/>
            <a:ext cx="4044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мириться с потерей мужа она не могла. «Сердце моё почуяло Бога, и я научилась покорности; но рана моя не заживала никогд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250920" y="115920"/>
            <a:ext cx="8713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ормирование гражданственности и патриотизма на примере женщин-героев Отечественной войны 1812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атриотическое воспитание учащихся: воспитание чувства гордости за наш народ и нашу страну, одержавших победу в Отечественной войне 1812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спитание чувства верности своему Отечест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80" descr="http://img-fotki.yandex.ru/get/4310/mamatysik.26/0_439f3_acd900af_XL"/>
          <p:cNvPicPr/>
          <p:nvPr/>
        </p:nvPicPr>
        <p:blipFill>
          <a:blip r:embed="rId1"/>
          <a:stretch/>
        </p:blipFill>
        <p:spPr>
          <a:xfrm>
            <a:off x="108000" y="981000"/>
            <a:ext cx="4895640" cy="561672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2"/>
          <p:cNvSpPr/>
          <p:nvPr/>
        </p:nvSpPr>
        <p:spPr>
          <a:xfrm>
            <a:off x="250920" y="1890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о-Бородинский женский монастыр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"/>
          <p:cNvSpPr/>
          <p:nvPr/>
        </p:nvSpPr>
        <p:spPr>
          <a:xfrm>
            <a:off x="4998960" y="836640"/>
            <a:ext cx="396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ый на Бородинском поле, вблизи деревни Семёновское в Бородинском сельском поселении Можайского района Московской области. Основан в 18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5" descr="http://uploads.ru/t/6/i/Q/6iQ9e.png"/>
          <p:cNvPicPr/>
          <p:nvPr/>
        </p:nvPicPr>
        <p:blipFill>
          <a:blip r:embed="rId1"/>
          <a:stretch/>
        </p:blipFill>
        <p:spPr>
          <a:xfrm>
            <a:off x="214200" y="285840"/>
            <a:ext cx="4718160" cy="62150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"/>
          <p:cNvSpPr/>
          <p:nvPr/>
        </p:nvSpPr>
        <p:spPr>
          <a:xfrm>
            <a:off x="5076720" y="1486800"/>
            <a:ext cx="38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ижение инокини Мелании в мантию с принятием имени Марии произошло 28 июня 1840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i-main-pic" descr="Картинка 6 из 17"/>
          <p:cNvPicPr/>
          <p:nvPr/>
        </p:nvPicPr>
        <p:blipFill>
          <a:blip r:embed="rId1"/>
          <a:stretch/>
        </p:blipFill>
        <p:spPr>
          <a:xfrm>
            <a:off x="500040" y="1484280"/>
            <a:ext cx="8143920" cy="51595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4"/>
          <p:cNvSpPr/>
          <p:nvPr/>
        </p:nvSpPr>
        <p:spPr>
          <a:xfrm>
            <a:off x="0" y="90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торожка Маргариты Михайловны Тучковой у батареи Раев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Картинка 1 из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9626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"/>
          <p:cNvSpPr/>
          <p:nvPr/>
        </p:nvSpPr>
        <p:spPr>
          <a:xfrm>
            <a:off x="4859280" y="1196640"/>
            <a:ext cx="4176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сть 25-летия победы над Наполеоном поставлен памятник погиб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надпис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тступили  с честью, чтобы вернее победить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оугольник 1"/>
          <p:cNvSpPr/>
          <p:nvPr/>
        </p:nvSpPr>
        <p:spPr>
          <a:xfrm>
            <a:off x="611280" y="69228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подвиг на войне - свидетельство единства людей перед лицом опасности, доказательство преступной бессмысленности войны. Женщина на войне - это поистине целый мир, содержащий в себе такие непреходящие ценности, как достоинство, честь, мужество, готовность к самопожертвованию, стремление к справед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9" descr="http://yro.narod.ru/bibliotheca/gen/DUROVA/durova1a.jpg"/>
          <p:cNvPicPr/>
          <p:nvPr/>
        </p:nvPicPr>
        <p:blipFill>
          <a:blip r:embed="rId1"/>
          <a:stretch/>
        </p:blipFill>
        <p:spPr>
          <a:xfrm>
            <a:off x="179280" y="549360"/>
            <a:ext cx="4105440" cy="5500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"/>
          <p:cNvSpPr/>
          <p:nvPr/>
        </p:nvSpPr>
        <p:spPr>
          <a:xfrm>
            <a:off x="4284720" y="404640"/>
            <a:ext cx="489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ась  Надежда в семье офицера   А.Дурова в сентябре 1783.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Семья вела скитальческую полковую жизнь. В восемнадцать лет Дурову выдали замуж за судебного заседателя В. С. Чернова, и через год у них родился сын Иван. К сыну она не питала никаких чувств. Согласия между супругами не было, и Надежда покинула мужа, оставив ему сы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4510800" y="936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 Н.Д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8" descr="http://yro.narod.ru/bibliotheca/gen/DUROVA/durova1.jpg"/>
          <p:cNvPicPr/>
          <p:nvPr/>
        </p:nvPicPr>
        <p:blipFill>
          <a:blip r:embed="rId1"/>
          <a:stretch/>
        </p:blipFill>
        <p:spPr>
          <a:xfrm>
            <a:off x="214200" y="571680"/>
            <a:ext cx="4070520" cy="55940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427640" y="260280"/>
            <a:ext cx="435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сентября 1806 года в день своих именин Н. Дурова тайком бежит из дома, переодевшись в казачий костюм. Уехала  вслед за казачьим полком в качестве денщика. Позже попросилась на службу в уланский полк под видом молодого человека Алекса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4" descr="http://yro.narod.ru/bibliotheca/gen/DUROVA/durova6.jpg"/>
          <p:cNvPicPr/>
          <p:nvPr/>
        </p:nvPicPr>
        <p:blipFill>
          <a:blip r:embed="rId1"/>
          <a:stretch/>
        </p:blipFill>
        <p:spPr>
          <a:xfrm>
            <a:off x="108000" y="333360"/>
            <a:ext cx="3065400" cy="475128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4857840" y="5000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3203640" y="0"/>
            <a:ext cx="5832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чественную войну 1812 года Надежда встретила-в чине подпоручика Литовского уланс-кого полка, а вскоре ее произвели в чин поручика. За свою жизнь Надежда Дурова успела побывать во многих баталиях, и сослужив-цы всегда отмечали ее храбрость и благородство. Она принимала участие в сражениях при Гуттш-тадте,Гейльсберге,Фридлан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1807 году находилась в Тильзите во время подписания Тильзитского мира между Наполеоном и Александром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1" descr="http://yro.narod.ru/bibliotheca/gen/DUROVA/durova2.jpg"/>
          <p:cNvPicPr/>
          <p:nvPr/>
        </p:nvPicPr>
        <p:blipFill>
          <a:blip r:embed="rId1"/>
          <a:stretch/>
        </p:blipFill>
        <p:spPr>
          <a:xfrm>
            <a:off x="179280" y="404640"/>
            <a:ext cx="5832720" cy="6000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6084720" y="2637000"/>
            <a:ext cx="289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Дурова прошла всю Отечественную войну 18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8" descr="http://yro.narod.ru/bibliotheca/gen/DUROVA/durova11.jpeg"/>
          <p:cNvPicPr/>
          <p:nvPr/>
        </p:nvPicPr>
        <p:blipFill>
          <a:blip r:embed="rId1"/>
          <a:stretch/>
        </p:blipFill>
        <p:spPr>
          <a:xfrm>
            <a:off x="250920" y="260280"/>
            <a:ext cx="4357440" cy="6286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4"/>
          <p:cNvSpPr/>
          <p:nvPr/>
        </p:nvSpPr>
        <p:spPr>
          <a:xfrm>
            <a:off x="4716360" y="500040"/>
            <a:ext cx="42134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6 году Н.Дурова вышла в отставку. Но до конца жизни Надежда Андреевна носила военный мунд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5" descr="http://yro.narod.ru/bibliotheca/gen/DUROVA/durova8.jpg"/>
          <p:cNvPicPr/>
          <p:nvPr/>
        </p:nvPicPr>
        <p:blipFill>
          <a:blip r:embed="rId1"/>
          <a:stretch/>
        </p:blipFill>
        <p:spPr>
          <a:xfrm>
            <a:off x="179280" y="333360"/>
            <a:ext cx="3857760" cy="600084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2"/>
          <p:cNvSpPr/>
          <p:nvPr/>
        </p:nvSpPr>
        <p:spPr>
          <a:xfrm>
            <a:off x="4357800" y="214200"/>
            <a:ext cx="4500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 отставке Н.Дурова взялась за пе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Ее «Записками» зачитывалась вся Рос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3"/>
          <p:cNvSpPr/>
          <p:nvPr/>
        </p:nvSpPr>
        <p:spPr>
          <a:xfrm>
            <a:off x="4214880" y="27860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«И что за язык, что за слог у Девицы-кавалериста? Что за чудный, что за дивный феномен нравственного мира героини…»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6" descr="http://yro.narod.ru/bibliotheca/gen/DUROVA/durova9.jpeg"/>
          <p:cNvPicPr/>
          <p:nvPr/>
        </p:nvPicPr>
        <p:blipFill>
          <a:blip r:embed="rId1"/>
          <a:stretch/>
        </p:blipFill>
        <p:spPr>
          <a:xfrm>
            <a:off x="428760" y="642960"/>
            <a:ext cx="4429080" cy="507204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2"/>
          <p:cNvSpPr/>
          <p:nvPr/>
        </p:nvSpPr>
        <p:spPr>
          <a:xfrm>
            <a:off x="4929120" y="1000080"/>
            <a:ext cx="392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Музей-усадьба Н.А.Дуровой в Елабуге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Здесь Надежда Александровна прожила более 3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я могу тебя ждат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30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5:45:07Z</dcterms:created>
  <dc:creator>Admin</dc:creator>
  <dc:description/>
  <dc:language>en-US</dc:language>
  <cp:lastModifiedBy>Shcool</cp:lastModifiedBy>
  <dcterms:modified xsi:type="dcterms:W3CDTF">2022-02-27T19:03:17Z</dcterms:modified>
  <cp:revision>74</cp:revision>
  <dc:subject/>
  <dc:title>Слайд 1</dc:title>
</cp:coreProperties>
</file>